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6F1-BB63-4A14-BCAC-63AE0931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CD4-9FCA-4D5F-A55A-3569B83F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926-A993-4A33-8709-61F50CF3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F2E-90A5-4C65-82CC-F2070FE6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AF6-183B-406F-91B4-11EA891F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489-EB01-4B8B-BDF0-1DA0215B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5FB-05A6-42B4-A034-79D9814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F65-57E3-4AC5-A1AA-194777C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7BC-9357-41E3-A5B2-75DDC55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925-A4F8-467E-AFF2-1C1C305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001-841A-4785-AD37-755BAD3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77C-4A37-432E-935D-389A1A5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066-1BEC-4D7E-9FEF-85AF63F2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 and Perpendicula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286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2767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arallel lines have the same slop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53452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75248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437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4505400"/>
            <a:ext cx="6095880" cy="8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019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119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9810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181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7913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2296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78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82880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05920" cy="8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25920" y="1371600"/>
            <a:ext cx="5365800" cy="34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33920" y="2560680"/>
            <a:ext cx="5376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153280" cy="64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60020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 parallel to 2x + 3y = 12 going through the point (-6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6386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w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Perpendicula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3716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erpendicular lines have slopes that are negative reciprocal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78120" y="1523880"/>
            <a:ext cx="5160960" cy="6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733920" y="2666880"/>
            <a:ext cx="4632120" cy="61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457440" y="3718080"/>
            <a:ext cx="53056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14:14Z</dcterms:created>
  <dc:creator>Susannah Graham</dc:creator>
  <dc:description/>
  <dc:language>en-US</dc:language>
  <cp:lastModifiedBy>Susannah Graham</cp:lastModifiedBy>
  <dcterms:modified xsi:type="dcterms:W3CDTF">2009-08-04T21:18:16Z</dcterms:modified>
  <cp:revision>5</cp:revision>
  <dc:subject/>
  <dc:title>Lesson 6.5 Parallel and Perpendicular Lines</dc:title>
</cp:coreProperties>
</file>